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5215-472B-49EE-A7A7-076346C3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5B70-3D7C-4EE3-92D1-E0AAC9B6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D617-2892-4C3E-A9F6-90238D42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782C-73F4-4140-ACDB-E0043015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E845-C27C-4C59-BE38-374348DB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D10F-AFB7-4F85-B202-5BED3984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6985-3B85-449E-9A72-AA059AD4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B659-7F7B-4B6B-8E32-D8E01F99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0CB8-0336-4301-90E7-9FAA31EF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FF5E-CC48-4836-A640-45F6868F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3FDD-A71D-483C-8E4B-F79E9495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305F-0077-4C69-87ED-C38370B8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4FDD-702E-4043-AA45-575054F274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20" y="155520"/>
            <a:ext cx="883908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词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-ing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形式用作状语时，其逻辑主语一般应与句子的主语一致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Living in the country, we had few amus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Being unable to help in any other way, I gave her some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从山上看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we can see as far as the s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__,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已经失望两次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 I decided to work much harder than befo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41148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eing on the top of the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51958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aving disappointed myself tw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23:56:46Z</dcterms:created>
  <dc:creator>user</dc:creator>
  <dc:description/>
  <dc:language>en-US</dc:language>
  <cp:lastModifiedBy>user</cp:lastModifiedBy>
  <dcterms:modified xsi:type="dcterms:W3CDTF">2003-08-09T00:04:42Z</dcterms:modified>
  <cp:revision>2</cp:revision>
  <dc:subject/>
  <dc:title>PowerPoint 演示文稿</dc:title>
</cp:coreProperties>
</file>